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80E-9093-4BFB-96D9-E552BE45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74E-4CC0-402E-9799-2606D118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C83-B2DD-465F-8CDC-1FAB4435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DFC-46CF-4E6D-9A10-66695053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892-2932-4D7E-896F-BFD23EAE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24E-0BC9-4CE2-9D18-34AFC500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C88-5B60-4873-86F4-0EEBC26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1F11-3ED9-4A20-86BE-139AE539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4145-FBC7-4165-9FD1-8BBF34F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752-98DD-4146-841C-4C1CACE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F0B-7D10-4752-959B-172BE05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533-B73D-4CE6-A0FD-73EA1873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9BD-B7AD-458A-A3D6-F5CA2B5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880-9F66-4DC0-BBA2-2D3D4A2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68E0-05E5-4B7A-9724-47AFB290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9CC-C5A3-4C51-AED1-436703DE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108-8119-47AD-A77E-2A888BBF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8E7-3255-47B3-8C5A-E4E18F74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7C0-1484-4A5F-A4A4-064601D5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078-D860-4C75-A92F-1EED24A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5EA-B6EC-4A96-B1C2-89928E1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EDF-A1FB-4953-9172-411C84C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8AF-3E8A-450E-A219-B742369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995-523D-40B1-8CE2-4C4B44D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750-07D9-4371-A7D7-506B62EB2C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230-5435-4BEC-B33B-419B1CC539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9900"/>
                </a:solidFill>
                <a:latin typeface="Blackadder ITC"/>
              </a:rPr>
              <a:t>Rome</a:t>
            </a:r>
            <a:endParaRPr b="0" lang="en-US" sz="1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Blackadder ITC"/>
              </a:rPr>
              <a:t>By Amanda Dieteman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00400" y="4800600"/>
            <a:ext cx="267660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a500"/>
                </a:solidFill>
                <a:latin typeface="Edwardian Script ITC"/>
              </a:rPr>
              <a:t>Points of attraction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most famous attractions is the colosse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take tours of the colosse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losseum is 159 feet t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80 entran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a500"/>
                </a:solidFill>
                <a:latin typeface="Edwardian Script ITC"/>
              </a:rPr>
              <a:t>Points of attraction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relian column is 30 meters h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made of 28 blocks of carrara mar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on a large rectangular pedes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locks show parts of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Column of Marcus Aurelius"/>
          <p:cNvPicPr/>
          <p:nvPr/>
        </p:nvPicPr>
        <p:blipFill>
          <a:blip r:embed="rId1"/>
          <a:stretch/>
        </p:blipFill>
        <p:spPr>
          <a:xfrm>
            <a:off x="6019920" y="1600200"/>
            <a:ext cx="1861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Hotels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eat hotel is the eurostars international pa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a great 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within walking distance of Piazza Venezia, the colosseum and Trevi Fount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a restaurant and room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Eurostars International Palace, Rome, IT"/>
          <p:cNvPicPr/>
          <p:nvPr/>
        </p:nvPicPr>
        <p:blipFill>
          <a:blip r:embed="rId1"/>
          <a:stretch/>
        </p:blipFill>
        <p:spPr>
          <a:xfrm>
            <a:off x="4857840" y="1643040"/>
            <a:ext cx="36194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Restaurants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od restaurant is the “Ciak si Mangi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restaurant for the dea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sometimes has a deaf wait staf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ccepts visa card, master card and sky c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48164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30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Edwardian Script ITC"/>
              </a:rPr>
              <a:t>Food 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foods in Rome are pizza, spaghetti and calz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lunch contains bread, salad, olives, cheese, fruits and nu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dinner their meal contains mostly veget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rink a lot of w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2478240"/>
            <a:ext cx="403848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Phrases to know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ona sera=good ev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ve=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ao=h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=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=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ongiorno=good mo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ve è il locale di ri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62680" y="172260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0:22:00Z</dcterms:created>
  <dc:creator>36382</dc:creator>
  <dc:description/>
  <dc:language>en-US</dc:language>
  <cp:lastModifiedBy>Marcia</cp:lastModifiedBy>
  <dcterms:modified xsi:type="dcterms:W3CDTF">2009-09-16T13:28:49Z</dcterms:modified>
  <cp:revision>7</cp:revision>
  <dc:subject/>
  <dc:title>Rome</dc:title>
</cp:coreProperties>
</file>